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60C-5265-46A8-A635-31DD3932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7E6-6EEF-46BB-8963-16019E9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370-1F14-4CC4-B283-5412E2B3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FF8-F519-4333-8A11-85BD1375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CDCA-EA47-4B60-BA00-1A2E4E10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38D-111C-46DE-A22D-7BB31D2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41D-6046-4BC7-914D-3E4BAA8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438-190E-43D4-9149-DB403ADE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0687-0BC7-49E3-8328-FFC4E8A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859B-A45B-4137-AA92-7564CD6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7E8E-CA1F-4C0C-ABF8-EBDD57D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25E-2735-4D9B-AA87-DD3D1FE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9D83-B2AD-4839-9C38-31AD6FB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87AC-76AF-4AE9-A847-4D12F84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BC2-0D8B-43F4-A65E-7E7CDE61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788-B6C2-4CCC-A413-442C4F23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BFDD-169B-4BFB-96E3-C95A216C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FC3-70CE-44C0-97FB-C59C0A0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2AB-5CA6-4588-873B-2FAAB96D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1A2-E00D-47F4-9B72-F479906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7E9-2901-4F70-B159-AF5824A5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4B5-6E60-4C9B-BC6A-9703107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B92-3E49-4422-BF17-16CA19AB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5B6-379D-4EEA-930B-6115FE7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9E2E-76E6-4ED2-A0F4-3872BA3ACEF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CC4-C3D7-4F78-86D4-5A99C4A7FF5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sson 1   skirt and trouser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k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irt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衬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-shirt    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weater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rousers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4120" y="947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7800" y="1752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412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71960" y="319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80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favourite  coulour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最喜欢的      颜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1828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1981080"/>
            <a:ext cx="19810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1981080"/>
            <a:ext cx="1981080" cy="1447920"/>
          </a:xfrm>
          <a:prstGeom prst="rect">
            <a:avLst/>
          </a:prstGeom>
          <a:solidFill>
            <a:srgbClr val="f9180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1905120" cy="1676520"/>
          </a:xfrm>
          <a:prstGeom prst="rect">
            <a:avLst/>
          </a:prstGeom>
          <a:solidFill>
            <a:srgbClr val="f1f54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419720"/>
            <a:ext cx="1981080" cy="1676160"/>
          </a:xfrm>
          <a:prstGeom prst="rect">
            <a:avLst/>
          </a:prstGeom>
          <a:solidFill>
            <a:srgbClr val="2fdce5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419720"/>
            <a:ext cx="1752480" cy="1676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657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5480" y="3597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35971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4440" y="60958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yellow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480" y="6111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9080" y="60958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 skirt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  trousers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 sweater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 T-shirt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  trousers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se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。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the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是什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是。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a red skirt . I like it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一件红色的短裙。我喜欢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ese are yellow trousers . Yellow is my favourite colour 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黄色的长裤。黄色是我最喜欢的颜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wear——wear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穿着     表示进行状态，正穿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is he wearing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green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weate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一件绿色的毛衣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ite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T-sh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恤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 is wearing blue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trouser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穿着蓝色长裤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e is wearing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yellow </a:t>
            </a:r>
            <a:r>
              <a:rPr b="0" lang="zh-CN" sz="4000" spc="-1" strike="noStrike">
                <a:solidFill>
                  <a:srgbClr val="f91807"/>
                </a:solidFill>
                <a:latin typeface="Arial"/>
              </a:rPr>
              <a:t>ski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穿着一件黄短裙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32:06Z</dcterms:created>
  <dc:creator>Administrator</dc:creator>
  <dc:description/>
  <dc:language>en-US</dc:language>
  <cp:lastModifiedBy>Administrator</cp:lastModifiedBy>
  <dcterms:modified xsi:type="dcterms:W3CDTF">2016-09-05T12:53:1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